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CB8A6-D3C8-468F-8C07-90127D017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DF0AC-4602-4226-9059-2EE3B4C98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2770F-A9FB-4D76-A798-A24930165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BEB67-A102-4922-ADCA-8FFE6E23E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7B01E-932A-4E24-9230-B2F4C81BB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A94E4-9E60-46F5-9768-D4B048664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0E853-C29D-4917-B26E-79F5A1E42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59493-38D7-4010-87BF-75CCB0916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05C53-26F2-479F-9B05-4524D5E47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E28C0-5B83-4F58-A5E0-DC536D774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D944-DF0E-4A0A-BC38-6BD6E0111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B5433-44D0-403A-8A5E-CAC3FA51D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3C21-260C-43FE-A72F-D3243E0045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F &amp; Verbeterdebuur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raktische toepassing van de StUF standaard  voor gegevensuitwisseling</a:t>
            </a:r>
            <a:endParaRPr b="0" lang="en-US" sz="3200" spc="-1" strike="noStrike">
              <a:solidFill>
                <a:srgbClr val="000000"/>
              </a:solidFill>
              <a:latin typeface="Calibri"/>
            </a:endParaRPr>
          </a:p>
        </p:txBody>
      </p:sp>
      <p:sp>
        <p:nvSpPr>
          <p:cNvPr id="43" name=""/>
          <p:cNvSpPr/>
          <p:nvPr/>
        </p:nvSpPr>
        <p:spPr>
          <a:xfrm>
            <a:off x="757440" y="5805360"/>
            <a:ext cx="4496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98989"/>
                </a:solidFill>
                <a:latin typeface="Arial"/>
              </a:rPr>
              <a:t>Gershon Janssen (gershon.janssen@tiscali.nl),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98989"/>
                </a:solidFill>
                <a:latin typeface="Arial"/>
              </a:rPr>
              <a:t>Chiljon Janssen (chiljon.janssen@gmail.co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98989"/>
                </a:solidFill>
                <a:latin typeface="Arial"/>
              </a:rPr>
              <a:t>StUF regiegroep - 6 April 20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rgerinitiatief naar gemeente (1)</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en landelijk burgerinitiatief zal meldingen moeten doorzetten naar 418 gemeenten</a:t>
            </a:r>
            <a:endParaRPr b="0" lang="en-US" sz="3200" spc="-1" strike="noStrike">
              <a:solidFill>
                <a:srgbClr val="000000"/>
              </a:solidFill>
              <a:latin typeface="Calibri"/>
            </a:endParaRPr>
          </a:p>
        </p:txBody>
      </p:sp>
      <p:pic>
        <p:nvPicPr>
          <p:cNvPr id="63" name="Picture 5" descr="burgerinitiatief01.png"/>
          <p:cNvPicPr/>
          <p:nvPr/>
        </p:nvPicPr>
        <p:blipFill>
          <a:blip r:embed="rId1"/>
          <a:stretch/>
        </p:blipFill>
        <p:spPr>
          <a:xfrm>
            <a:off x="1928880" y="2786040"/>
            <a:ext cx="503856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regels MOB</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lregels voor MOB:</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g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 een totaaloverzicht van meldingen kunnen zi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 kunnen zien of een melding al is opgelost (statu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meent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 geen dubbele meldin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ie van hoeveel mensen dit een probleem vin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rgerinitiatief naar gemeente (2)</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en landelijk burgerinitiatief zal tweerichtingsverkeer met 418 gemeenten moeten onderhouden</a:t>
            </a:r>
            <a:endParaRPr b="0" lang="en-US" sz="3200" spc="-1" strike="noStrike">
              <a:solidFill>
                <a:srgbClr val="000000"/>
              </a:solidFill>
              <a:latin typeface="Calibri"/>
            </a:endParaRPr>
          </a:p>
        </p:txBody>
      </p:sp>
      <p:pic>
        <p:nvPicPr>
          <p:cNvPr id="68" name="Picture 6" descr="burgerinitiatief02.png"/>
          <p:cNvPicPr/>
          <p:nvPr/>
        </p:nvPicPr>
        <p:blipFill>
          <a:blip r:embed="rId1"/>
          <a:stretch/>
        </p:blipFill>
        <p:spPr>
          <a:xfrm>
            <a:off x="2357280" y="3214800"/>
            <a:ext cx="4592880" cy="333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flow richting de back-offic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estaande “koppeling” met de gemeent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Nieuwe melding:</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CC ontvangt mail en stuurt deze door naar stadsbeheer</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ewerker stadsbeheer voert handmatig de melding op in de back-office applicati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tatus bestaande melding:</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ewerker stadsbeheer logt in op de beheermodule van het burgerinitiatief</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matig bijwerken van de status in het systeem</a:t>
            </a:r>
            <a:endParaRPr b="0" lang="en-US" sz="22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           </a:t>
            </a:r>
            <a:r>
              <a:rPr b="1" i="1" lang="en-US" sz="3000" spc="-1" strike="noStrike">
                <a:solidFill>
                  <a:srgbClr val="000000"/>
                </a:solidFill>
                <a:latin typeface="Calibri"/>
              </a:rPr>
              <a:t>Sterke behoefte aan automatiser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ardisati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 workflow voor Meldingen Openbare Buitenruimten vanuit burgerinitiatieven vraagt om standaardisati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anuit het burgerinitiatief: </a:t>
            </a:r>
            <a:r>
              <a:rPr b="0" lang="en-US" sz="2800" spc="-1" strike="noStrike">
                <a:solidFill>
                  <a:srgbClr val="000000"/>
                </a:solidFill>
                <a:latin typeface="Calibri"/>
              </a:rPr>
              <a:t>418 koppelingen realiser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anuit de gemeente: </a:t>
            </a:r>
            <a:r>
              <a:rPr b="0" lang="en-US" sz="2800" spc="-1" strike="noStrike">
                <a:solidFill>
                  <a:srgbClr val="000000"/>
                </a:solidFill>
                <a:latin typeface="Calibri"/>
              </a:rPr>
              <a:t>&gt;6 koppelingen realiseren met burgerinitiatiev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3" descr="burgerinitiatief02.png"/>
          <p:cNvPicPr/>
          <p:nvPr/>
        </p:nvPicPr>
        <p:blipFill>
          <a:blip r:embed="rId1"/>
          <a:stretch/>
        </p:blipFill>
        <p:spPr>
          <a:xfrm>
            <a:off x="6858000" y="357120"/>
            <a:ext cx="1878120" cy="1363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chitectuur Verbeterdebuurt</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pen Data Platform: centrale database met alle Meldingen Openbare Buitenruimten van Nederl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ndersteuning va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nmaken van nieuwe melding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raag / Antwoord op melding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nchronisatie van meldingen</a:t>
            </a:r>
            <a:endParaRPr b="0" lang="en-US" sz="2000" spc="-1" strike="noStrike">
              <a:solidFill>
                <a:srgbClr val="000000"/>
              </a:solidFill>
              <a:latin typeface="Calibri"/>
            </a:endParaRPr>
          </a:p>
        </p:txBody>
      </p:sp>
      <p:pic>
        <p:nvPicPr>
          <p:cNvPr id="76" name="Picture 3" descr="vbdb totaal concept 01.png"/>
          <p:cNvPicPr/>
          <p:nvPr/>
        </p:nvPicPr>
        <p:blipFill>
          <a:blip r:embed="rId1"/>
          <a:stretch/>
        </p:blipFill>
        <p:spPr>
          <a:xfrm>
            <a:off x="1643040" y="4071960"/>
            <a:ext cx="6181920" cy="251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face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3" descr="vbdb totaal interfaces 02.png"/>
          <p:cNvPicPr/>
          <p:nvPr/>
        </p:nvPicPr>
        <p:blipFill>
          <a:blip r:embed="rId1"/>
          <a:stretch/>
        </p:blipFill>
        <p:spPr>
          <a:xfrm>
            <a:off x="1428840" y="1500120"/>
            <a:ext cx="6286320" cy="508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de interface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Nieuwe meldinge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tUF-EF, GEMMA e-Formulier, </a:t>
            </a:r>
            <a:r>
              <a:rPr b="1" i="1" lang="nl-NL" sz="2600" spc="-1" strike="noStrike">
                <a:solidFill>
                  <a:srgbClr val="000000"/>
                </a:solidFill>
                <a:latin typeface="Calibri"/>
              </a:rPr>
              <a:t>Een melding woon- of leefomgeving doen, </a:t>
            </a:r>
            <a:r>
              <a:rPr b="1" lang="en-US" sz="2600" spc="-1" strike="noStrike">
                <a:solidFill>
                  <a:srgbClr val="000000"/>
                </a:solidFill>
                <a:latin typeface="Calibri"/>
              </a:rPr>
              <a:t>GS10WLO</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oegevoegd ExtraElemente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t, long</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sitie van de melding op de kaart</a:t>
            </a:r>
            <a:endParaRPr b="0" lang="en-US" sz="19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e</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ype melding: problem of idea</a:t>
            </a:r>
            <a:endParaRPr b="0" lang="en-US" sz="19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te</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doeld voor stem op een bestaande melding</a:t>
            </a:r>
            <a:endParaRPr b="0" lang="en-US" sz="19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ent</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doeld voor commentaar op een bestaande melding</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de interfaces (2)</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raag / Antwoord op meldinge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UF-ZKN, zakLv01: </a:t>
            </a:r>
            <a:r>
              <a:rPr b="1" lang="nl-NL" sz="2800" spc="-1" strike="noStrike">
                <a:solidFill>
                  <a:srgbClr val="000000"/>
                </a:solidFill>
                <a:latin typeface="Calibri"/>
              </a:rPr>
              <a:t>een synchroon vraagbericht naar de actuele gegeve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extraElementen uit EF vraag je via EDC weer op uit de zaa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Implementatie issu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lak bevraging en coördinaten melding waarschijnlijk niet juist geïmplementeerd in het bericht door onjuist gebruik gemeentelijkeOpenbareRuimt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DC inhoud niet MIME gecodeerd</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interfaces (3)</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ynchronisatie van meldingen tussen Zaaksystem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F-ZKN, zakLk02: </a:t>
            </a:r>
            <a:r>
              <a:rPr b="0" lang="nl-NL" sz="2800" spc="-1" strike="noStrike">
                <a:solidFill>
                  <a:srgbClr val="000000"/>
                </a:solidFill>
                <a:latin typeface="Calibri"/>
              </a:rPr>
              <a:t>een synchroon kennisgevingbericht zonder toekomstmutaties, mutatiesoort T en 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egevoegd ExtraElemente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t, lo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itie van de melding op de kaart</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 Meldingen Openbare Buitenruim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ardisat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itectu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fa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e op StUF L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 ondersteunen we niet?</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mplementatie ondersteunt op dit moment nog nie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F-ZKN synchronisatie berichte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e case: initiele vull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tio: functionaliteit wordt gebouwd naar behoef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e StUF Lite (1)</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Conclusies  en reacties uit rapport StUF Lite:</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Calibri"/>
              </a:rPr>
              <a:t>Conclusie 1: Er is behoefte aan een eenvoudiger berichtformaat voor gegevensuitwisseling binnen de overheid dan StUF in zijn huidige vorm biedt. </a:t>
            </a:r>
            <a:endParaRPr b="0" lang="en-US" sz="21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Calibri"/>
              </a:rPr>
              <a:t>Reactie: StUF wordt als complex ervaren door het </a:t>
            </a:r>
            <a:r>
              <a:rPr b="0" lang="nl-NL" sz="2100" spc="-1" strike="noStrike" u="sng">
                <a:solidFill>
                  <a:srgbClr val="000000"/>
                </a:solidFill>
                <a:uFillTx/>
                <a:latin typeface="Calibri"/>
              </a:rPr>
              <a:t>ontbreken</a:t>
            </a:r>
            <a:r>
              <a:rPr b="0" lang="nl-NL" sz="2100" spc="-1" strike="noStrike">
                <a:solidFill>
                  <a:srgbClr val="000000"/>
                </a:solidFill>
                <a:latin typeface="Calibri"/>
              </a:rPr>
              <a:t> van </a:t>
            </a:r>
            <a:endParaRPr b="0" lang="en-US" sz="2100" spc="-1" strike="noStrike">
              <a:solidFill>
                <a:srgbClr val="000000"/>
              </a:solidFill>
              <a:latin typeface="Calibri"/>
            </a:endParaRPr>
          </a:p>
          <a:p>
            <a:pPr lvl="2" marL="1131480" indent="-22608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Calibri"/>
              </a:rPr>
              <a:t>(a) vindbaarheid van spec en code </a:t>
            </a:r>
            <a:endParaRPr b="0" lang="en-US" sz="1900" spc="-1" strike="noStrike">
              <a:solidFill>
                <a:srgbClr val="000000"/>
              </a:solidFill>
              <a:latin typeface="Calibri"/>
            </a:endParaRPr>
          </a:p>
          <a:p>
            <a:pPr lvl="2" marL="1131480" indent="-22608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Calibri"/>
              </a:rPr>
              <a:t>(b) goede documentatie (bijvoorbeeld: cookbook met use cases en voorbeelden) </a:t>
            </a:r>
            <a:endParaRPr b="0" lang="en-US" sz="1900" spc="-1" strike="noStrike">
              <a:solidFill>
                <a:srgbClr val="000000"/>
              </a:solidFill>
              <a:latin typeface="Calibri"/>
            </a:endParaRPr>
          </a:p>
          <a:p>
            <a:pPr lvl="2" marL="1131480" indent="-22608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Calibri"/>
              </a:rPr>
              <a:t>(c) werkende voorbeelden</a:t>
            </a:r>
            <a:endParaRPr b="0" lang="en-US" sz="1900" spc="-1" strike="noStrike">
              <a:solidFill>
                <a:srgbClr val="000000"/>
              </a:solidFill>
              <a:latin typeface="Calibri"/>
            </a:endParaRPr>
          </a:p>
          <a:p>
            <a:pPr lvl="2" marL="1131480" indent="-22608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Calibri"/>
              </a:rPr>
              <a:t>(d) een testfaciliteit </a:t>
            </a:r>
            <a:endParaRPr b="0" lang="en-US" sz="1900" spc="-1" strike="noStrike">
              <a:solidFill>
                <a:srgbClr val="000000"/>
              </a:solidFill>
              <a:latin typeface="Calibri"/>
            </a:endParaRPr>
          </a:p>
          <a:p>
            <a:pPr lvl="2" marL="1131480" indent="-22608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Calibri"/>
              </a:rPr>
              <a:t>(e) actief discussie forum / mailinglist </a:t>
            </a:r>
            <a:endParaRPr b="0" lang="en-US" sz="1900" spc="-1" strike="noStrike">
              <a:solidFill>
                <a:srgbClr val="000000"/>
              </a:solidFill>
              <a:latin typeface="Calibri"/>
            </a:endParaRPr>
          </a:p>
          <a:p>
            <a:pPr lvl="2" marL="1131480" indent="-22608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Calibri"/>
              </a:rPr>
              <a:t>(f) heldere patch strategie</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e StUF Lite (2)</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Conclusies  en reacties uit rapport StUF Li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Conclusie 2:</a:t>
            </a:r>
            <a:r>
              <a:rPr b="1" lang="nl-NL" sz="2100" spc="-1" strike="noStrike">
                <a:solidFill>
                  <a:srgbClr val="000000"/>
                </a:solidFill>
                <a:latin typeface="Calibri"/>
              </a:rPr>
              <a:t>De StUF standaard is in de loop der tijd complex geworden, omdat StUF het stelsel van basisregistraties wil faciliteren. Dit maakt StUF in de praktijk lastig te gebruiken voor eenvoudige toepassingen. </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Calibri"/>
              </a:rPr>
              <a:t>Reactie: Lastig gebruik zit in het vinden van de juiste berichten.  Voorts gebruikt de beoogde doelgroep voor StUF lite  scripttalen als PHP en Perl. Deze scripttalen kennen geen web services framework.</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e StUF Lite (3)</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Als use case wordt opgevoerd Meldingen Openbare Buitenruimten. Hoe ziet de architectuur van een oplossing eruit bij gebruik van StUF Lite? Door welke componenten worden deze berichten verwerkt binnen de gemeente?</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elke use cases naast Meldingen Openbare Buitenruimten vergen een StUF Lite aanpa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anleiding</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Calibri"/>
              </a:rPr>
              <a:t>Internet heeft een groeiend effect op de samenlev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ocial Medi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obile Ap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Calibri"/>
              </a:rPr>
              <a:t>Courante trends richting Overheid 2.0:</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verheid als platfor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penheid als norm</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Calibri"/>
              </a:rPr>
              <a:t>Toepassingen in het publieke domein vragen om integratie met de overheid</a:t>
            </a:r>
            <a:endParaRPr b="0" lang="en-US" sz="27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gramma Burgerlink, www.burgerlink.nl</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l</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resentatie over de achtergrond, implementatie en toepassing van de StUF standa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Terugkoppeling aan de werkgroep over hoe de StUF standaard praktisch wordt toegepast en welke aspecten we zijn tegengeko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e en wat</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erbeterdebuur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al platform om de buurt te kunnen verbetere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ire focus: Meldingen Openbare Buitenruimte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hiljon Jansse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ftware Architec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alisatie: Middleware en Integrati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ndachtsgebieden: Data integrati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ershon Jansse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rchitec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Specialisatie: Standaardisati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ndachtsgebieden: Architectuur, SOA, Cloud, Identity en Priva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 name="Picture 2" descr=""/>
          <p:cNvPicPr/>
          <p:nvPr/>
        </p:nvPicPr>
        <p:blipFill>
          <a:blip r:embed="rId1"/>
          <a:stretch/>
        </p:blipFill>
        <p:spPr>
          <a:xfrm>
            <a:off x="3000240" y="1428840"/>
            <a:ext cx="2214720" cy="44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Calibri"/>
              </a:rPr>
              <a:t>Persberichten over Verbeterdebuurt en StUF:</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Calibri"/>
              </a:rPr>
              <a:t>http://www.binnenlandsbestuur.nl/nieuws/2010/12/losse-stoeptegel-hoeft-niet-meer-per-e-mail.595679.lynkx</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Calibri"/>
              </a:rPr>
              <a:t>http://www.automatiseringgids.nl/it-in-bedrijf/innovatie/2010/52/iphone-gemor-linea-recta-naar-beambten.aspx</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Calibri"/>
              </a:rPr>
              <a:t>http://www.govunited.nl/Actueel/Nieuwsarchief/December_2010/Verbeterdebuurt_gekoppeld_aan_zaaksysteem_GovUnited_meldingen_openbare_ruimte_in_nieuwe_StUF_berichtenstandaard</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speelveld</a:t>
            </a:r>
            <a:endParaRPr b="0" lang="en-US" sz="4400" spc="-1" strike="noStrike">
              <a:solidFill>
                <a:srgbClr val="000000"/>
              </a:solidFill>
              <a:latin typeface="Calibri"/>
            </a:endParaRPr>
          </a:p>
        </p:txBody>
      </p:sp>
      <p:pic>
        <p:nvPicPr>
          <p:cNvPr id="56" name="Content Placeholder 5" descr="contextplaat 1.png"/>
          <p:cNvPicPr/>
          <p:nvPr/>
        </p:nvPicPr>
        <p:blipFill>
          <a:blip r:embed="rId1"/>
          <a:stretch/>
        </p:blipFill>
        <p:spPr>
          <a:xfrm>
            <a:off x="1517760" y="1600200"/>
            <a:ext cx="61084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lers op de mark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beterdebuu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tenBe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rgerConn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urtRad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e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rger kan tegenwoordig Melding Openbare Buitenruimten </a:t>
            </a:r>
            <a:r>
              <a:rPr b="1" lang="en-US" sz="2200" spc="-1" strike="noStrike" u="sng">
                <a:solidFill>
                  <a:srgbClr val="000000"/>
                </a:solidFill>
                <a:uFillTx/>
                <a:latin typeface="Calibri"/>
              </a:rPr>
              <a:t>maken</a:t>
            </a:r>
            <a:r>
              <a:rPr b="1" lang="en-US" sz="2200" spc="-1" strike="noStrike">
                <a:solidFill>
                  <a:srgbClr val="000000"/>
                </a:solidFill>
                <a:latin typeface="Calibri"/>
              </a:rPr>
              <a:t> via de kanale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rect aan de gemeente</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ebsite</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lefoon</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mail</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rief</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ia burgerinitiatief (landelijk)</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ebsite</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obile App</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 burger zal haar kanaal kiezen op basis van gemak en bruikbaarhei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4:45:04Z</dcterms:created>
  <dc:creator>Gershon Janssen</dc:creator>
  <dc:description/>
  <dc:language>en-US</dc:language>
  <cp:lastModifiedBy>Gershon Janssen</cp:lastModifiedBy>
  <dcterms:modified xsi:type="dcterms:W3CDTF">2011-04-06T10:19:58Z</dcterms:modified>
  <cp:revision>20</cp:revision>
  <dc:subject/>
  <dc:title>StUF &amp; Verbeterdebuurt</dc:title>
</cp:coreProperties>
</file>